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EBA-B3BB-4C9B-B9FC-09409A03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1C6-8C8A-4211-980A-71133696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ED4-AD70-40EB-B6B1-6A1A4779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819-448C-4100-B35F-6DD584AD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F860-31D0-486A-BC2F-98093522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D11C-3C6B-4F20-A161-680750F6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568E-4E9A-4564-9ED0-7898D9DA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23BB-1136-4C68-9688-D5AEEA16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5A1E-A00D-49DB-AC83-C944CDB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0CD1-DDB2-4E94-AD1F-389C36B7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C3EF-07E5-4B31-9834-154DD4DE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E6B-F210-46DD-A2AB-90B10777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91C6-17BD-463C-98A4-EFB962E6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1D26-F952-4DD6-B8F7-D1CC90D0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C2F5-0C0B-4D72-8B6C-2780785E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06EA-5CB9-4FBA-94AB-CE204AF0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7D90-5E56-43F7-9CAA-6BF15454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2B5-7E4D-4AEB-88C4-84BCBD0E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B6D-453A-4B8D-8E3A-5716801B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A38-9FD5-42A7-9DF4-89E130B6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802-A389-450F-96EF-1235F90E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173-B07E-4BFE-BC99-24C0DA9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A81-ACC1-4A14-96F4-2A4FE958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1AC-D4AC-4DD3-B130-62098287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EAC9-51CA-42E7-9CB6-AB946C4653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2DB7-11AD-451C-A28D-C70400DAE9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1680" y="1214280"/>
          <a:ext cx="8540640" cy="3840480"/>
        </p:xfrm>
        <a:graphic>
          <a:graphicData uri="http://schemas.openxmlformats.org/drawingml/2006/table">
            <a:tbl>
              <a:tblPr/>
              <a:tblGrid>
                <a:gridCol w="1841400"/>
                <a:gridCol w="3929040"/>
                <a:gridCol w="277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to Exp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in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s and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list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dea of the verb in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ad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ing, he underst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may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10"/>
          <p:cNvSpPr/>
          <p:nvPr/>
        </p:nvSpPr>
        <p:spPr>
          <a:xfrm>
            <a:off x="1928880" y="5143680"/>
            <a:ext cx="4857840" cy="1107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g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Indicativ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mood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DEA OF M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24A241C1-FEC6-407D-85DC-371AED0A35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09480" y="1563840"/>
            <a:ext cx="792504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hilemon 4-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ὐχαριστω τῳ θεῳ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..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σου την ἀγαπη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give thanks to God …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your lov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ts 18.8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λλοι των Κορινθιω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πιστευ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of the Corinthian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ere bel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e fro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 hear) but are in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o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aning 'hearing' (one is singular, one is plural). A participle works alongside a main verb adding a further layer of meaning: not just 'I give thanks' but 'hearing of your love', not just 'they were believing' but 'hearing'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99759E9E-8942-4D25-A353-03DCCCB272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974464D2-A56B-4DE8-B4D0-B751739035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47640" y="1828800"/>
            <a:ext cx="784872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must agree with the noun they qualify in gender, case,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00280" y="3962520"/>
            <a:ext cx="754380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have tense (Present or Aorist), and may have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-41400" y="1209600"/>
            <a:ext cx="8804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4.1 The form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1280" y="1838160"/>
          <a:ext cx="5305320" cy="1951200"/>
        </p:xfrm>
        <a:graphic>
          <a:graphicData uri="http://schemas.openxmlformats.org/drawingml/2006/table">
            <a:tbl>
              <a:tblPr/>
              <a:tblGrid>
                <a:gridCol w="1203120"/>
                <a:gridCol w="2049480"/>
                <a:gridCol w="20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sculine Nominativ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5"/>
          <p:cNvSpPr/>
          <p:nvPr/>
        </p:nvSpPr>
        <p:spPr>
          <a:xfrm>
            <a:off x="214200" y="3786120"/>
            <a:ext cx="8929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in the Indicative and Imperative, the Aorist has a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t does not have an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lural participles both have endings in –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orist participles have an ‘a’ sound, the Present an ‘o’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s follow the normal ru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1AED5686-CE48-4E7E-9995-2BD00CE592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143000" y="1371600"/>
            <a:ext cx="6858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4.2 The meaning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440" y="2514600"/>
          <a:ext cx="8763120" cy="1401840"/>
        </p:xfrm>
        <a:graphic>
          <a:graphicData uri="http://schemas.openxmlformats.org/drawingml/2006/table">
            <a:tbl>
              <a:tblPr/>
              <a:tblGrid>
                <a:gridCol w="2259000"/>
                <a:gridCol w="6504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cess – the action in the Participle is a process going on at the same time as the main ver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he action in the Participle occurred before the main ver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5"/>
          <p:cNvSpPr/>
          <p:nvPr/>
        </p:nvSpPr>
        <p:spPr>
          <a:xfrm>
            <a:off x="609480" y="4495680"/>
            <a:ext cx="7925040" cy="116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 Participle = Simul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orist Participle =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FD02239A-B3E5-4DDF-B376-8BAD47CA59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57120" y="1525680"/>
            <a:ext cx="81676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4.18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ριπατ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ρα την θαλασσαν της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Γαλιλαιας εἰδε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he saw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υο ἀδελφ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le he was walk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ongside the Sea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ilee, he saw two br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6:16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ut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ρῳδης ἐλεγ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Herod he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is he sai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11BFFE42-662B-40E1-B00C-5A1731277E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1257480" y="164304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4.3 Participles with obje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2960" y="2928960"/>
            <a:ext cx="8572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Gentium"/>
                <a:ea typeface="Times New Roman"/>
              </a:rPr>
              <a:t>βλεψαν τον ὀχλον </a:t>
            </a:r>
            <a:r>
              <a:rPr b="0" lang="el-GR" sz="30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 Ἰησους ἐκηρυξεν τον λογον</a:t>
            </a:r>
            <a:r>
              <a:rPr b="0" lang="en-GB" sz="30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When he saw the crowd, Jesus proclaimed the word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CD9FD99D-EABB-49EF-876E-0A9B70E942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traight Connector 22"/>
          <p:cNvSpPr/>
          <p:nvPr/>
        </p:nvSpPr>
        <p:spPr>
          <a:xfrm flipH="1">
            <a:off x="4852800" y="5000760"/>
            <a:ext cx="6120" cy="38412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0BBA9699-2D4C-49B8-923C-13BA957885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0280" y="13572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7160" y="1357200"/>
            <a:ext cx="7402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of the participle starting off a new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Sent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ame 5"/>
          <p:cNvSpPr/>
          <p:nvPr/>
        </p:nvSpPr>
        <p:spPr>
          <a:xfrm>
            <a:off x="1071720" y="3429000"/>
            <a:ext cx="2000160" cy="57168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170000" y="34704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ame 7"/>
          <p:cNvSpPr/>
          <p:nvPr/>
        </p:nvSpPr>
        <p:spPr>
          <a:xfrm>
            <a:off x="1071720" y="4429080"/>
            <a:ext cx="2000160" cy="57168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ame 8"/>
          <p:cNvSpPr/>
          <p:nvPr/>
        </p:nvSpPr>
        <p:spPr>
          <a:xfrm>
            <a:off x="1071720" y="5357880"/>
            <a:ext cx="2000160" cy="57132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15740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1187280" y="5402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"/>
          <p:cNvSpPr/>
          <p:nvPr/>
        </p:nvSpPr>
        <p:spPr>
          <a:xfrm flipH="1">
            <a:off x="2069640" y="4002120"/>
            <a:ext cx="1800" cy="42876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4"/>
          <p:cNvSpPr/>
          <p:nvPr/>
        </p:nvSpPr>
        <p:spPr>
          <a:xfrm flipH="1">
            <a:off x="2069640" y="5002200"/>
            <a:ext cx="1800" cy="35712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943440" y="3456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ame 16"/>
          <p:cNvSpPr/>
          <p:nvPr/>
        </p:nvSpPr>
        <p:spPr>
          <a:xfrm>
            <a:off x="3857760" y="3429000"/>
            <a:ext cx="2000160" cy="57168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ame 17"/>
          <p:cNvSpPr/>
          <p:nvPr/>
        </p:nvSpPr>
        <p:spPr>
          <a:xfrm>
            <a:off x="3857760" y="4429080"/>
            <a:ext cx="2000160" cy="57168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ame 18"/>
          <p:cNvSpPr/>
          <p:nvPr/>
        </p:nvSpPr>
        <p:spPr>
          <a:xfrm>
            <a:off x="3857760" y="5357880"/>
            <a:ext cx="2000160" cy="57132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94344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959280" y="5384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1"/>
          <p:cNvSpPr/>
          <p:nvPr/>
        </p:nvSpPr>
        <p:spPr>
          <a:xfrm flipH="1">
            <a:off x="4857840" y="4000680"/>
            <a:ext cx="1440" cy="42840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6497640" y="3911760"/>
            <a:ext cx="1928880" cy="57132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6572160" y="3967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6500880" y="5000760"/>
            <a:ext cx="1928880" cy="57132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6572160" y="50385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0"/>
          <p:cNvSpPr/>
          <p:nvPr/>
        </p:nvSpPr>
        <p:spPr>
          <a:xfrm>
            <a:off x="5857920" y="3714840"/>
            <a:ext cx="639720" cy="48240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>
            <a:off x="7462080" y="4483080"/>
            <a:ext cx="3240" cy="517680"/>
          </a:xfrm>
          <a:prstGeom prst="line">
            <a:avLst/>
          </a:prstGeom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0F41A9D9-3BF0-4D9D-B23A-4A03E895D2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000" y="160020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4.14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 σπειρ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ν λογον σπειρ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πειρω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sowing (Present masculine nom. sing.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πειρ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I s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σπειρ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the sowing one = the s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The sower is sowing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4.1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ὑτο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se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σ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σαντε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σα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having heard (Aorist masculine nom. sing.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κου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σαντε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the having heard ones = those who he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These are the people who heard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42920" y="1143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00040" y="2093760"/>
            <a:ext cx="8072640" cy="246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't be afraid to introduce words like 'who' into translation of participles which are acting as nouns. The aim is to convey the meaning in good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E9E7D1F4-5553-4CB0-90DB-13748D319D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B7FB241D-CA9D-4222-94B2-BBAEB92DEA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1785960"/>
            <a:ext cx="8358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cts 16.31: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Gentium"/>
              </a:rPr>
              <a:t>πιστευσον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 ἐπι τον κυριον Ἰησ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900" spc="-1" strike="noStrike" u="sng">
                <a:solidFill>
                  <a:srgbClr val="000000"/>
                </a:solidFill>
                <a:uFillTx/>
                <a:latin typeface="Arial"/>
              </a:rPr>
              <a:t>Believ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on the Lord Jesu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πιστευσον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is communicating a command (or exhortation).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πιστευ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s now in a different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moo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Imperativ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990720" y="118584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2.1 The formation of 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30200" y="1785960"/>
          <a:ext cx="6527880" cy="1523880"/>
        </p:xfrm>
        <a:graphic>
          <a:graphicData uri="http://schemas.openxmlformats.org/drawingml/2006/table">
            <a:tbl>
              <a:tblPr/>
              <a:tblGrid>
                <a:gridCol w="3149640"/>
                <a:gridCol w="1743120"/>
                <a:gridCol w="163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59"/>
          <p:cNvSpPr/>
          <p:nvPr/>
        </p:nvSpPr>
        <p:spPr>
          <a:xfrm>
            <a:off x="723960" y="3440160"/>
            <a:ext cx="76960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son imper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imperatives do not have the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orist h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ffix, as in the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Present Imperative identical to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. Present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s follow norm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C5A3B332-1852-4A1B-99D9-69F73BACD4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455760" y="1643040"/>
            <a:ext cx="8215200" cy="412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's easy to mix up the Future Indicative and the Aorist Imperative (both have a 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 and no prefix). The endings are th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16:2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σον ἐπι τον κυριον Ἰησ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 in the Lord Jesus! (Aorist Imper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7.4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σομεν ἐπ’ αὐ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believe in him. (Future Indic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8DB12793-2CD5-41E2-8F7A-1FEF39977F4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7605F0EA-AF4E-4972-B9AC-1495E042A0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90680" y="1752480"/>
            <a:ext cx="6362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.2.2 The difference between the Present and Aorist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0" y="3321000"/>
            <a:ext cx="4572000" cy="116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orist -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5DF5E526-6FF1-46C4-A64E-E83B0C6DD6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680" y="1357200"/>
            <a:ext cx="8001000" cy="1715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orist Imperative is more common than the Present Imperative – therefore take note when Present Imperative is us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8280" y="3429000"/>
            <a:ext cx="89298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σσετε το εὐαγγελι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- Preach (pl.) the good-news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ntinually: Go on preach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ψατε τα προβατ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- Watch (pl.) the sheep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υριε, σωσον τον λα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- Lord, save the people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57160" y="2244600"/>
            <a:ext cx="73868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6.1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λα ἐχω ὑμ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many thing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s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equivalent of 'to say' in English. This is clearly closely related to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ing 'I say' – it is the same verb but now in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EC821653-16AB-426A-A148-71A1566D77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E9B9D392-5E07-47A5-8451-0D02B634EE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84480" y="1943280"/>
          <a:ext cx="4728960" cy="1020600"/>
        </p:xfrm>
        <a:graphic>
          <a:graphicData uri="http://schemas.openxmlformats.org/drawingml/2006/table">
            <a:tbl>
              <a:tblPr/>
              <a:tblGrid>
                <a:gridCol w="1506600"/>
                <a:gridCol w="1782720"/>
                <a:gridCol w="1439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6"/>
          <p:cNvSpPr/>
          <p:nvPr/>
        </p:nvSpPr>
        <p:spPr>
          <a:xfrm>
            <a:off x="533520" y="3525840"/>
            <a:ext cx="861048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nfinitive can be translated as ‘to…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in the Imperative, the Aorist Infinitive has a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ffix, but no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s follow the normal rules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ε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ιλησ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42920" y="1279440"/>
            <a:ext cx="93582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οιησεν δωδεκ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α δαιμονι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nd he made twelve …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hav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throw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infinitives are Present, because the twelve will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ously have authority and will repeatedly throw ou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Ἰησους θελ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σωσ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αὐτη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Jesus is will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sav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nfinitive is Aorist because it does not point to 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al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:Grammar </a:t>
            </a:r>
            <a:fld id="{777C7D3A-B18B-4D7C-8047-C73A600528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21:07Z</dcterms:created>
  <dc:creator>Sarah</dc:creator>
  <dc:description/>
  <dc:language>en-US</dc:language>
  <cp:lastModifiedBy>Sarah</cp:lastModifiedBy>
  <dcterms:modified xsi:type="dcterms:W3CDTF">2009-07-10T22:56:43Z</dcterms:modified>
  <cp:revision>61</cp:revision>
  <dc:subject/>
  <dc:title>Slide 1</dc:title>
</cp:coreProperties>
</file>